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028-BF96-46EB-A927-E193723A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E4F-C1D3-42E2-BAC4-50C7181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C6D-BD84-4DDE-A6B6-39D979E5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92C-D54C-4888-9B3E-1D5183CE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DE5-B900-482F-81D0-8B90725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8DD-F71B-4D3A-817A-9929B2A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501-A92C-4981-AC5A-82CDAF59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EF5-3CFC-4969-BED3-B3505C55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B33-FC79-4581-B3F9-6A85FA0A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208-4E03-4A86-A7F3-90DB4CD3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4AF-2577-4734-9F6C-5BC4CA3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C6D-76D0-4504-914C-FD28129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Bookman Old Styl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5D70-FAA8-40BA-8592-11DFFD16C771}" type="slidenum">
              <a:rPr b="0" lang="en-US" sz="1400" spc="-1" strike="noStrike">
                <a:solidFill>
                  <a:srgbClr val="000066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035800">
            <a:off x="152280" y="2282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2" name=""/>
          <p:cNvSpPr/>
          <p:nvPr/>
        </p:nvSpPr>
        <p:spPr>
          <a:xfrm rot="1038600">
            <a:off x="8076960" y="22860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3" name=""/>
          <p:cNvSpPr/>
          <p:nvPr/>
        </p:nvSpPr>
        <p:spPr>
          <a:xfrm rot="12795000">
            <a:off x="1371240" y="457128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4" name=""/>
          <p:cNvSpPr/>
          <p:nvPr/>
        </p:nvSpPr>
        <p:spPr>
          <a:xfrm rot="21507600">
            <a:off x="762120" y="198108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5" name=""/>
          <p:cNvSpPr/>
          <p:nvPr/>
        </p:nvSpPr>
        <p:spPr>
          <a:xfrm rot="11793600">
            <a:off x="228600" y="5791320"/>
            <a:ext cx="914400" cy="83808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6" name=""/>
          <p:cNvSpPr/>
          <p:nvPr/>
        </p:nvSpPr>
        <p:spPr>
          <a:xfrm rot="8889600">
            <a:off x="7923960" y="45716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7" name=""/>
          <p:cNvSpPr/>
          <p:nvPr/>
        </p:nvSpPr>
        <p:spPr>
          <a:xfrm rot="9538800">
            <a:off x="8000640" y="5638320"/>
            <a:ext cx="914400" cy="8384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8" name=""/>
          <p:cNvSpPr/>
          <p:nvPr/>
        </p:nvSpPr>
        <p:spPr>
          <a:xfrm rot="20680800">
            <a:off x="579600" y="3472920"/>
            <a:ext cx="1218960" cy="9907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9" name=""/>
          <p:cNvSpPr/>
          <p:nvPr/>
        </p:nvSpPr>
        <p:spPr>
          <a:xfrm rot="1200000">
            <a:off x="7238880" y="3352680"/>
            <a:ext cx="1219320" cy="9907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0" name=""/>
          <p:cNvSpPr/>
          <p:nvPr/>
        </p:nvSpPr>
        <p:spPr>
          <a:xfrm rot="17328000">
            <a:off x="7315200" y="190476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0" y="76320"/>
          <a:ext cx="480528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320"/>
                    <a:ext cx="48052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Bookman Old Style"/>
              </a:rPr>
              <a:t>Austin, TX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Bookman Old Style"/>
              </a:rPr>
              <a:t>October 14</a:t>
            </a:r>
            <a:r>
              <a:rPr b="1" lang="en-US" sz="3200" spc="-1" strike="noStrike" baseline="30000">
                <a:solidFill>
                  <a:srgbClr val="ff9900"/>
                </a:solidFill>
                <a:latin typeface="Bookman Old Style"/>
              </a:rPr>
              <a:t>th</a:t>
            </a:r>
            <a:r>
              <a:rPr b="1" lang="en-US" sz="3200" spc="-1" strike="noStrike">
                <a:solidFill>
                  <a:srgbClr val="ff9900"/>
                </a:solidFill>
                <a:latin typeface="Bookman Old Style"/>
              </a:rPr>
              <a:t>, 2004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4" name=""/>
          <p:cNvSpPr/>
          <p:nvPr/>
        </p:nvSpPr>
        <p:spPr>
          <a:xfrm rot="19111800">
            <a:off x="4571640" y="579096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5" name=""/>
          <p:cNvSpPr/>
          <p:nvPr/>
        </p:nvSpPr>
        <p:spPr>
          <a:xfrm rot="21535800">
            <a:off x="3809520" y="152280"/>
            <a:ext cx="914400" cy="8384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6" name=""/>
          <p:cNvSpPr/>
          <p:nvPr/>
        </p:nvSpPr>
        <p:spPr>
          <a:xfrm rot="19111800">
            <a:off x="1752120" y="57146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7" name=""/>
          <p:cNvSpPr/>
          <p:nvPr/>
        </p:nvSpPr>
        <p:spPr>
          <a:xfrm rot="17433000">
            <a:off x="5753160" y="495000"/>
            <a:ext cx="1219320" cy="11430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8" name=""/>
          <p:cNvSpPr/>
          <p:nvPr/>
        </p:nvSpPr>
        <p:spPr>
          <a:xfrm rot="11975400">
            <a:off x="1980720" y="914040"/>
            <a:ext cx="914400" cy="83808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DA8-8F5D-4026-AF92-076FD2C4D210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X SET Version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.0A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.1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2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3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4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5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6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7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8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Discussion Topic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895-68E8-4A50-8A3E-E45682B28322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t was decided at the July meeting of TX SET that TX SET will release two new versions of the TX SET Implementation Guides.  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MS approved the implementation timeline for TX SET Versions 2.0A and 2.1 at its August meeting.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3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4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5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6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7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8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9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TX SET Version Release Schedule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143-1F83-4504-8FC4-01E28BD2130D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ublished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Early November 2004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mplementation Date (I.D.)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 Late November 2004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est Flight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TX SET does not recommend that 2.0A be associated with a Test Flight.  The Change Controls associated with this release will not be impacting MPs systems, and therefore do not require testing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arket Benefit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TX SET wants to keep I.G.s clean and updated for market benefit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4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5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6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7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8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9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0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0A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E13-7BCE-4C4F-BA2F-879E311AD8C3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ontain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9 TX SET Change Controls 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Gray Box Change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IMO Clean-Up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X SET Clean-Up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Example Change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X SET Clean-Up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lean-Up of Spelling &amp; Punctuation Error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e-Alphabetizing Codes in I.G.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5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6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7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8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9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0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1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0A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122-81C2-468F-9FFA-4FEC0BB0F8AE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1752480" cy="152388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to send Market the list of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Bookman Old Style"/>
              </a:rPr>
              <a:t>“Graybox” CCs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o be included in 2.0A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2743200" cy="152388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requesting comments from Market on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Bookman Old Style"/>
              </a:rPr>
              <a:t>“Graybox” CCs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  CCs objected to by Market will be removed from 2.0A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7" name=""/>
          <p:cNvSpPr/>
          <p:nvPr/>
        </p:nvSpPr>
        <p:spPr>
          <a:xfrm>
            <a:off x="2521080" y="4800600"/>
            <a:ext cx="1593720" cy="129528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to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0A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905120"/>
            <a:ext cx="1676520" cy="160020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incorporates comments to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0A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issues to Market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876920"/>
            <a:ext cx="1517760" cy="121896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distributes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0A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o the Market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905120"/>
            <a:ext cx="2057400" cy="152388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produces final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0A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osts to website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4876920"/>
            <a:ext cx="1517400" cy="121896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publishes 2.0A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2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3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5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6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8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0A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429000"/>
            <a:ext cx="7315200" cy="1219320"/>
            <a:chOff x="914400" y="3429000"/>
            <a:chExt cx="7315200" cy="1219320"/>
          </a:xfrm>
        </p:grpSpPr>
        <p:sp>
          <p:nvSpPr>
            <p:cNvPr id="121" name=""/>
            <p:cNvSpPr/>
            <p:nvPr/>
          </p:nvSpPr>
          <p:spPr>
            <a:xfrm>
              <a:off x="914400" y="3962520"/>
              <a:ext cx="7315200" cy="228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4400" y="3429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29600" y="3429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0280" y="3657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886200"/>
              <a:ext cx="1371600" cy="368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July</a:t>
              </a:r>
              <a:endParaRPr b="0" lang="en-US" sz="18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3886200"/>
              <a:ext cx="1219320" cy="368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Aug</a:t>
              </a:r>
              <a:endParaRPr b="0" lang="en-US" sz="18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3886200"/>
              <a:ext cx="1143000" cy="368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Sep</a:t>
              </a:r>
              <a:endParaRPr b="0" lang="en-US" sz="18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86200"/>
              <a:ext cx="1371600" cy="368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Oct</a:t>
              </a:r>
              <a:endParaRPr b="0" lang="en-US" sz="18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3886200"/>
              <a:ext cx="1143000" cy="368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Nov</a:t>
              </a:r>
              <a:endParaRPr b="0" lang="en-US" sz="18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280" y="3886200"/>
              <a:ext cx="1219320" cy="368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Dec</a:t>
              </a:r>
              <a:endParaRPr b="0" lang="en-US" sz="18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3080" y="3505320"/>
              <a:ext cx="762120" cy="1066680"/>
            </a:xfrm>
            <a:prstGeom prst="irregularSeal1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I.D.</a:t>
              </a:r>
              <a:endParaRPr b="0" lang="en-US" sz="2400" spc="-1" strike="noStrike">
                <a:solidFill>
                  <a:srgbClr val="000066"/>
                </a:solidFill>
                <a:latin typeface="Bookman Old Style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D6C-2E6A-4FDF-BCC2-CC00D55FC275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Key Date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hange Controls to be considered must be sent in by November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hange Control Conference Call December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, 2004 @ TX SET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ublished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: March 2005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mplementation Date (I.D.)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: Early December 2005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est Flight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: 0905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39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2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3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4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5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1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9D9-110B-4E1B-9777-4E52237D7953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ontains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ll apply the decisions from the 810/867/824 Taskforce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824 Reject codes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Will provide CRs with “Billing Determinants” on the 810_02 Invoice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ll apply decision from the Transaction Improvement Task Force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814_24 will have indicator code for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Bookman Old Style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MVO request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650_04 will have indicator requesting MVO for permanent meter remova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0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1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2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3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4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5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6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1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2D-0239-4692-AEE9-6158D3E05AC0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191120"/>
            <a:ext cx="731520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657600"/>
            <a:ext cx="144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1" name=""/>
          <p:cNvSpPr/>
          <p:nvPr/>
        </p:nvSpPr>
        <p:spPr>
          <a:xfrm>
            <a:off x="8229600" y="3657600"/>
            <a:ext cx="144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8620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88620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88620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388620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88620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4114800"/>
            <a:ext cx="12193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Jan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114800"/>
            <a:ext cx="129528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Feb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4114800"/>
            <a:ext cx="11430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March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114800"/>
            <a:ext cx="1295280" cy="392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114800"/>
            <a:ext cx="11430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Nov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4114800"/>
            <a:ext cx="12193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Dec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981080"/>
            <a:ext cx="2286000" cy="144792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Flight 1005</a:t>
            </a:r>
            <a:endParaRPr b="0" lang="en-US" sz="4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5227560"/>
            <a:ext cx="1447920" cy="76212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to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1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1981080"/>
            <a:ext cx="1676520" cy="160020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incorporates comments to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1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reissues to Market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3733920"/>
            <a:ext cx="762120" cy="10666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.D.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181480"/>
            <a:ext cx="2051280" cy="91440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distribute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1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o the Market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4952880"/>
            <a:ext cx="2667240" cy="121932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publishes 2.0A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arket Participant system: design, build, test, 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76560" y="3657600"/>
            <a:ext cx="228600" cy="1219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81120" y="3657600"/>
            <a:ext cx="228600" cy="1219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981080"/>
            <a:ext cx="1447920" cy="1524240"/>
          </a:xfr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X SET produces final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REDLINE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man Old Style"/>
              </a:rPr>
              <a:t>2.1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posts to website</a:t>
            </a:r>
            <a:endParaRPr b="0" lang="en-US" sz="1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3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4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5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6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7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8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89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685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1</a:t>
            </a:r>
            <a:endParaRPr b="0" lang="en-US" sz="36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7B5-9CA2-401A-81C6-B03EECF7B84D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3:35:39Z</dcterms:created>
  <dc:creator>kpatrick</dc:creator>
  <dc:description/>
  <dc:language>en-US</dc:language>
  <cp:lastModifiedBy>kpatrick</cp:lastModifiedBy>
  <dcterms:modified xsi:type="dcterms:W3CDTF">2004-10-14T13:37:06Z</dcterms:modified>
  <cp:revision>63</cp:revision>
  <dc:subject/>
  <dc:title>Muni / Electric Coop Meeting</dc:title>
</cp:coreProperties>
</file>